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11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36.jpeg" ContentType="image/jpeg"/>
  <Override PartName="/ppt/media/image9.jpeg" ContentType="image/jpeg"/>
  <Override PartName="/ppt/media/image56.png" ContentType="image/png"/>
  <Override PartName="/ppt/media/image5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E8A-9C83-40D4-A490-AFAA3E33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2F3-2346-459E-8537-88F808D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E9A-6181-4650-BCFB-678FB653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E48-30B4-458F-83D0-B58594B1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83D-666F-4FCD-B215-452487F4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7794-0381-48AB-AE84-F97F28FF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9686-5365-486E-BA1B-449D10A7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981-F2DB-4722-B7E9-D06EB7E1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92D-3A54-440B-A8CC-72AB5AB2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0519-D196-4C4F-9003-B665348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C20F-6C52-43AD-8447-3917D657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EDF-CF9D-405E-AEF2-ADA97C80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563-BA1D-4560-AC5B-AB16EF2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8BD4-4353-4918-ACEB-7D33F1E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8B8-7611-4760-B1E9-1FB54B12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FAB-9A6A-4C90-AE9A-4D372CBE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A14D-D18A-4B9C-A657-1034B517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790-97B1-4C1B-BD5F-94CB987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56C-BDAE-49A6-A971-D2D3E99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14E-5E1C-4F04-B953-EAE76D3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861-24D6-440A-B579-4276A01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9E9-45CC-4F5D-9536-6972F46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1A0-64FE-4637-8E2E-CBAD71D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6BE-C827-4237-BDC3-3DC52BFC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310-D420-42ED-9DF3-911501423C33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" name="gif379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第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章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SQL Server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华文新魏"/>
              </a:rPr>
              <a:t>数据转换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" name="gif23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  <p:sp>
        <p:nvSpPr>
          <p:cNvPr id="17" name="">
            <a:hlinkClick r:id="" action="ppaction://hlinkshowjump?jump=previousslide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">
            <a:hlinkClick r:id="" action="ppaction://hlinkshowjump?jump=nextslide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下一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">
            <a:hlinkClick r:id="" action="ppaction://hlinkshowjump?jump=firstslide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首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7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ffffff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C567-5058-493C-A83F-AB1698202D49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58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" Target="slide58.xml"/><Relationship Id="rId7" Type="http://schemas.openxmlformats.org/officeDocument/2006/relationships/hyperlink" Target="file:///&#30446;&#24405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31532;8&#31456;%20%20%20%20SQL%20Server&#25968;&#25454;&#22797;&#21046;.ppt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9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Arial"/>
              </a:rPr>
              <a:t>SQL Server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转换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0720" y="243828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9.1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数据的导入和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9.2 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使用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DTS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设计器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6248520" y="5791320"/>
            <a:ext cx="1676160" cy="5331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返回目录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>
            <a:hlinkClick r:id="rId9"/>
          </p:cNvPr>
          <p:cNvSpPr/>
          <p:nvPr/>
        </p:nvSpPr>
        <p:spPr>
          <a:xfrm>
            <a:off x="8001000" y="4572000"/>
            <a:ext cx="1143000" cy="53352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上一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145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8.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91360" cy="3903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43560" y="525780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创建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4320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8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2900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787840" y="502920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文件数据库路径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954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8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523880"/>
            <a:ext cx="6400800" cy="3327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48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输入数据库路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526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8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24320" cy="3747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57040" y="5105520"/>
            <a:ext cx="32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定源数据库信息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8604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8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914400"/>
            <a:ext cx="5867640" cy="4083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812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标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8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17720"/>
            <a:ext cx="5334120" cy="383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17240" y="510552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8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6680"/>
            <a:ext cx="5448240" cy="3911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92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080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8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90720"/>
            <a:ext cx="4881600" cy="4189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38000" y="5334120"/>
            <a:ext cx="35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列映射页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432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8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066680"/>
            <a:ext cx="4800600" cy="4021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714040" y="5257800"/>
            <a:ext cx="34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14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列映射和转换对话框—转换页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8.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066680"/>
            <a:ext cx="5219640" cy="374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110120" y="51814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和导出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2590560"/>
            <a:ext cx="5486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1" action="ppaction://hlinksldjump"/>
              </a:rPr>
              <a:t>9.1.1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2" action="ppaction://hlinksldjump"/>
              </a:rPr>
              <a:t>数据的导入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3" action="ppaction://hlinksldjump"/>
              </a:rPr>
              <a:t>9.1.2  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Arial"/>
                <a:ea typeface="黑体"/>
                <a:hlinkClick r:id="rId4" action="ppaction://hlinksldjump"/>
              </a:rPr>
              <a:t>数据的导出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8.1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143000"/>
            <a:ext cx="5295960" cy="3492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37320" y="502920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813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8.1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143000"/>
            <a:ext cx="5524560" cy="3746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20920" y="51814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入文本文件数据库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快捷菜单中选择所有任务（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，然后再从子菜单中选择导入数据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出现选择文件格式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则出现指定列分隔符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1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就会出现选择目的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确定”按钮，则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确认导入数据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８）如果在向导中设定了立即执行，在向导结束后，则会出现数据导入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该对话框中执行向导中定义的复制操作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78136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8.2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295280"/>
            <a:ext cx="5410080" cy="356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151800" y="510552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6002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8.2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447920"/>
            <a:ext cx="6629400" cy="3379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24240" y="51055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8.2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447920"/>
            <a:ext cx="4915080" cy="354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55680" y="52578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格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8.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077840"/>
            <a:ext cx="5562720" cy="3995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919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列分隔符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8.2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069920"/>
            <a:ext cx="5334120" cy="3840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21200" y="51814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604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8.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05120" y="1066680"/>
            <a:ext cx="4681440" cy="3732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652480" y="51814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1.1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数据的导入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导入、导出向导导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库的步骤如下：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１）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企业管理器），展开选定的服务器，启动数据导入向导工具，就会出现欢迎使用向导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单击“下一步”按钮，则出现选择数据源对话框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３）单击“下一步”按钮，则出现选择导入的目标数据库类型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0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00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8.2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4953240" cy="4152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04520" y="545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列映射和转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002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8.2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000760" cy="3606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650760" y="518148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4804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8.2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5205240" cy="3435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4480" y="51055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入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909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8.3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914400"/>
            <a:ext cx="5334120" cy="401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308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进行数据导入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9.1.2 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数据的导出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出数据库至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，展开指定的服务器，用右键单击该服务器图标，从弹出的快捷菜单中选择所有任务（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all task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选项，然后再从子菜单中选择导出数据选项，则会出现数据转换服务导入和导出向导对话框 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它显示了该导出向导所能完成的操作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就会出现选择导出数据的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则会出现选择目的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选定目标数据库后，单击“下一步”按钮，则出现指定表复制或查询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就会出现导出向导结束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3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78136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8.3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567720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10680" y="5257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28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数据转换服务导出向导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8.3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895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921760" y="52578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8.3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19320"/>
            <a:ext cx="5143680" cy="369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892600" y="52578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812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8.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600200"/>
            <a:ext cx="6400800" cy="3305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81240" y="53341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选择源表和视图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５）在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中单击“下一步”按钮，则会出现保存、调度和复制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６）单击“下一步”按钮，则出现保存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包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向导确认完成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1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90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4" name="8.3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99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5860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8604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8.3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95840" cy="4015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14040" y="537516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源表和视图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82420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8.3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066680"/>
            <a:ext cx="5257800" cy="3983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280" y="53341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43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8.3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219320"/>
            <a:ext cx="6172200" cy="3495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306600" y="51814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查看数据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1448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8.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066680"/>
            <a:ext cx="5943600" cy="388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748680" y="52578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3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9" name="8.4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790960" cy="3908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143160" y="525780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导出数据库至文本文件 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启动企业管理器，展开选定的服务器，用右键单击该服务器图标，从弹出的快捷菜单中选择所有任务选项，然后再从子菜单中选择导出数据选项，就会出现欢迎使用数据转换服务导入和导出向导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单击“下一步”按钮，则会出现选择数据源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单击“下一步”按钮，就会出现选择目的数据库类型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４）单击“下一步”按钮，就会出现指定表复制或查询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01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５）单击“下一步”按钮，则出现选择目的文件格式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3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６）单击“下一步”按钮，就会出现保存、调度和复制包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可以设定是否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何时执行复制操作，以及将该包以何种方式存放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７）单击“下一步”按钮，则出现数据转换服务的导出向导结束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其中显示了在该向导中进行的设置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８）如果在该向导中选择了立即执行，在向导结束后，则会出现执行数据导出对话框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，该对话框显示了复制的执行结果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8.4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676840" cy="4076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3740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9145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8.4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867280" cy="4062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733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9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高级连接属性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8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4952880" cy="3565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610720" y="5105520"/>
            <a:ext cx="35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欢迎使用数据导入向导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7860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1" name="8.4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43000"/>
            <a:ext cx="5672160" cy="3735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119760" y="51055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0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目的数据库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6812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4" name="8.4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38080" y="1447920"/>
            <a:ext cx="7148520" cy="3403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43360" y="52578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1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文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860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8.4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6019560" cy="3949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193560" y="518148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指定表复制或查询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7766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0" name="8.4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6019920" cy="3927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144600" y="5334120"/>
            <a:ext cx="28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3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选择目的文件格式对话框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8004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3" name="8.4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5486400" cy="43941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19880" y="55627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列映射和转换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78136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8.4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90720"/>
            <a:ext cx="5524560" cy="3936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50760" y="5334120"/>
            <a:ext cx="14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保存、调度和复制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9" name="8.4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990720"/>
            <a:ext cx="5638680" cy="404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41280" y="54100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6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确认导出数据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94336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2" name="8.5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362560" cy="3951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738160" y="53341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执行数据导出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9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设计器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导入、导出向导一样，都是在同构或者异构数据源之间进行数据导入、导出和转换。但是，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是一个图形工具，它使创建和编辑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的工作变得更加简单和轻松，而且它提供了比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向导更为强大的功能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利用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创建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包，首先要添加连接，每个包包含目标连接和源连接，在连接中指明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提供者数据源，接着定义源连接和目标连接间的数据转换，然后要定义包将执行的任务，也可以自定义任务，最后决定是否运行包或者将其存储以备后用。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添加连接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打开企业管理器后，登录到指定的服务器，用右键单击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ata Transformation Service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文件夹，从弹出的快捷菜单中选择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New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项，就会出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 Packag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对话框。如下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670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9-4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4572000" cy="2440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572080" y="3916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860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8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333760" cy="3840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38480" y="5257800"/>
            <a:ext cx="44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2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（２）在主菜单中单击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菜单项，从下拉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Microsoft OLE DB Provider for 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选项，则打开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Connection 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对话框，如右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9-4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0024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3" name="9-49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3657600" cy="3259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14800" y="5029200"/>
            <a:ext cx="36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49   Connection Properties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定义和设置数据转换任务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数据转换任务是将数据从源连接传递到目标连接的主要机制。每个数据转换任务都要引用一个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 Data Dum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OLE DB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提供者。源连接和目标连接创建完成后，应创建数据转换。其方法是选中源连接后，按住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&lt;Shift&gt;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键不放，再选择目标连接，两者都选中后右击目标连接，从弹出的快捷菜单中选择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Transform Data Task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，则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设计器工作区会出现从源连接到目标连接的箭头，其用于表明数据的流向。 </a:t>
            </a:r>
            <a:endParaRPr b="1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在完成数据转换属性设置之后，可以向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DTS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包中添加自定义任务，其操作步骤为： </a:t>
            </a:r>
            <a:endParaRPr b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１）从左边的任务栏中，将要添加的任务类型用左键拖到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DTS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计器工作区，然后用右键单击进行属性设置，其属性对话框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6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２）添加完自定义任务之后，则应在转换数据任务和自定义任务之间定义优先级条件。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（３）在创建完包之后，可以单击工具栏上的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Run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按钮来运行包，在包执行的过程中，可以通过暂停和停止按钮来对执行过程进行控制，如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2912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0" name="9-56b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3882960" cy="419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1640" y="5410080"/>
            <a:ext cx="37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9-56 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执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脚本任务属性设置对话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5760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3" name="9-57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095880" cy="4079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80836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7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定义优先级条件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93832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6" name="9-58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4986360" cy="3794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1600" y="52578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8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运行包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0439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614320" cy="3810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8800" y="2286000"/>
            <a:ext cx="1460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本演示文稿到此结束，谢谢您 的光临，再见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endshow"/>
          </p:cNvPr>
          <p:cNvSpPr/>
          <p:nvPr/>
        </p:nvSpPr>
        <p:spPr>
          <a:xfrm>
            <a:off x="7696080" y="5334120"/>
            <a:ext cx="1143000" cy="53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结  束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813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8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106640"/>
            <a:ext cx="5334120" cy="3828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41800" y="5181480"/>
            <a:ext cx="42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3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设定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FoxPro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数据库数据源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098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8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19320"/>
            <a:ext cx="5257800" cy="3795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32640" y="5181480"/>
            <a:ext cx="29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4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类型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90988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8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143000"/>
            <a:ext cx="5243400" cy="38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16200" y="5181480"/>
            <a:ext cx="33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9-5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选择数据源驱动程序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2:29:16Z</dcterms:created>
  <dc:creator>li</dc:creator>
  <dc:description/>
  <dc:language>en-US</dc:language>
  <cp:lastModifiedBy>lcb</cp:lastModifiedBy>
  <dcterms:modified xsi:type="dcterms:W3CDTF">2001-08-19T14:58:50Z</dcterms:modified>
  <cp:revision>44</cp:revision>
  <dc:subject/>
  <dc:title>第9章   SQL Server 数据转换 </dc:title>
</cp:coreProperties>
</file>